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png" ContentType="image/png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9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107.png" ContentType="image/png"/>
  <Override PartName="/ppt/media/image78.wmf" ContentType="image/x-wmf"/>
  <Override PartName="/ppt/media/image76.wmf" ContentType="image/x-wmf"/>
  <Override PartName="/ppt/media/image75.wmf" ContentType="image/x-wmf"/>
  <Override PartName="/ppt/media/image127.wmf" ContentType="image/x-wmf"/>
  <Override PartName="/ppt/media/image34.wmf" ContentType="image/x-wmf"/>
  <Override PartName="/ppt/media/image77.png" ContentType="image/png"/>
  <Override PartName="/ppt/media/image144.wmf" ContentType="image/x-wmf"/>
  <Override PartName="/ppt/media/image35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45.wmf" ContentType="image/x-wmf"/>
  <Override PartName="/ppt/media/image50.wmf" ContentType="image/x-wmf"/>
  <Override PartName="/ppt/media/image147.wmf" ContentType="image/x-wmf"/>
  <Override PartName="/ppt/media/image128.wmf" ContentType="image/x-wmf"/>
  <Override PartName="/ppt/media/image44.wmf" ContentType="image/x-wmf"/>
  <Override PartName="/ppt/media/image130.wmf" ContentType="image/x-wmf"/>
  <Override PartName="/ppt/media/image129.wmf" ContentType="image/x-wmf"/>
  <Override PartName="/ppt/media/image32.wmf" ContentType="image/x-wmf"/>
  <Override PartName="/ppt/media/image131.png" ContentType="image/png"/>
  <Override PartName="/ppt/media/image37.wmf" ContentType="image/x-wmf"/>
  <Override PartName="/ppt/media/image46.wmf" ContentType="image/x-wmf"/>
  <Override PartName="/ppt/media/image132.wmf" ContentType="image/x-wmf"/>
  <Override PartName="/ppt/media/image13.png" ContentType="image/png"/>
  <Override PartName="/ppt/media/image1.png" ContentType="image/png"/>
  <Override PartName="/ppt/media/image153.wmf" ContentType="image/x-wmf"/>
  <Override PartName="/ppt/media/image154.wmf" ContentType="image/x-wmf"/>
  <Override PartName="/ppt/media/image51.wmf" ContentType="image/x-wmf"/>
  <Override PartName="/ppt/media/image148.wmf" ContentType="image/x-wmf"/>
  <Override PartName="/ppt/media/image161.wmf" ContentType="image/x-wmf"/>
  <Override PartName="/ppt/media/image94.png" ContentType="image/png"/>
  <Override PartName="/ppt/media/image134.png" ContentType="image/png"/>
  <Override PartName="/ppt/media/image155.wmf" ContentType="image/x-wmf"/>
  <Override PartName="/ppt/media/image33.wmf" ContentType="image/x-wmf"/>
  <Override PartName="/ppt/media/image156.wmf" ContentType="image/x-wmf"/>
  <Override PartName="/ppt/media/image157.wmf" ContentType="image/x-wmf"/>
  <Override PartName="/ppt/media/image60.wmf" ContentType="image/x-wmf"/>
  <Override PartName="/ppt/media/image160.wmf" ContentType="image/x-wmf"/>
  <Override PartName="/ppt/media/image150.wmf" ContentType="image/x-wmf"/>
  <Override PartName="/ppt/media/image159.png" ContentType="image/png"/>
  <Override PartName="/ppt/media/image162.wmf" ContentType="image/x-wmf"/>
  <Override PartName="/ppt/media/image151.wmf" ContentType="image/x-wmf"/>
  <Override PartName="/ppt/media/image152.png" ContentType="image/png"/>
  <Override PartName="/ppt/media/image58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0.wmf" ContentType="image/x-wmf"/>
  <Override PartName="/ppt/media/image137.wmf" ContentType="image/x-wmf"/>
  <Override PartName="/ppt/media/image163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49.png" ContentType="image/png"/>
  <Override PartName="/ppt/media/image146.wmf" ContentType="image/x-wmf"/>
  <Override PartName="/ppt/media/image145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36.wmf" ContentType="image/x-wmf"/>
  <Override PartName="/ppt/media/image5.png" ContentType="image/png"/>
  <Override PartName="/ppt/media/image10.wmf" ContentType="image/x-wmf"/>
  <Override PartName="/ppt/media/image47.wmf" ContentType="image/x-wmf"/>
  <Override PartName="/ppt/media/image133.wmf" ContentType="image/x-wmf"/>
  <Override PartName="/ppt/media/image2.png" ContentType="image/png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53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83.wmf" ContentType="image/x-wmf"/>
  <Override PartName="/ppt/media/image15.wmf" ContentType="image/x-wmf"/>
  <Override PartName="/ppt/media/image80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85.wmf" ContentType="image/x-wmf"/>
  <Override PartName="/ppt/media/image17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22.wmf" ContentType="image/x-wmf"/>
  <Override PartName="/ppt/media/image90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92.wmf" ContentType="image/x-wmf"/>
  <Override PartName="/ppt/media/image25.wmf" ContentType="image/x-wmf"/>
  <Override PartName="/ppt/media/image93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401-D591-4127-B5D2-B36043F0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002-6B46-4827-A76F-B387F61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EBC-7D33-4E66-91E4-44D34B82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183-6D9D-4843-BE5C-F88B3CAC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D6C-2D67-412D-ADF6-6962580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56D-39BF-467D-9688-E5674A1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460-E768-46E7-8B57-536D7EC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3FF-A0A2-4E88-A8F7-EE8EA42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CE3-395E-4B74-922A-3F9A717E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9C-303C-44E7-8FE6-FE22B7B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B58-9533-4476-BBF5-6CEBA8C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02B-CCC2-4954-98AA-9C1769B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ADF-4C4B-4B9B-85EF-592632F7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5.wmf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7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53.wmf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0.wmf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69.wm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5.wmf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image" Target="../media/image77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8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8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8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5.wmf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3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9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0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0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0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0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0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05.wmf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6.wmf"/><Relationship Id="rId9" Type="http://schemas.openxmlformats.org/officeDocument/2006/relationships/image" Target="../media/image107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3.wmf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5.wmf"/><Relationship Id="rId11" Type="http://schemas.openxmlformats.org/officeDocument/2006/relationships/image" Target="../media/image11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8.wmf"/><Relationship Id="rId16" Type="http://schemas.openxmlformats.org/officeDocument/2006/relationships/image" Target="../media/image119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7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28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29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30.wmf"/><Relationship Id="rId29" Type="http://schemas.openxmlformats.org/officeDocument/2006/relationships/image" Target="../media/image131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3.wmf"/><Relationship Id="rId11" Type="http://schemas.openxmlformats.org/officeDocument/2006/relationships/image" Target="../media/image134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4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4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4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43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144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145.wmf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8.wmf"/><Relationship Id="rId15" Type="http://schemas.openxmlformats.org/officeDocument/2006/relationships/image" Target="../media/image149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50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51.wmf"/><Relationship Id="rId20" Type="http://schemas.openxmlformats.org/officeDocument/2006/relationships/image" Target="../media/image152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5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54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55.wmf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8.wmf"/><Relationship Id="rId12" Type="http://schemas.openxmlformats.org/officeDocument/2006/relationships/image" Target="../media/image15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6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6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63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4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arithms &amp; Exponent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9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280" y="1217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03680" y="2438280"/>
            <a:ext cx="75240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6520" y="2563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3280" y="2468520"/>
          <a:ext cx="1652400" cy="74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280" y="2468520"/>
                    <a:ext cx="16524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684600" y="2438280"/>
            <a:ext cx="6508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8640" y="2438280"/>
            <a:ext cx="5284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1880" y="2438280"/>
            <a:ext cx="6904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87880" y="2438280"/>
            <a:ext cx="69084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99120" y="256392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0.91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03680" y="3789360"/>
            <a:ext cx="75240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06520" y="391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1360" y="3778200"/>
          <a:ext cx="1776240" cy="74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3778200"/>
                    <a:ext cx="17762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684600" y="3789360"/>
            <a:ext cx="6508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8640" y="3789360"/>
            <a:ext cx="5284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789360"/>
            <a:ext cx="6904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87880" y="3789360"/>
            <a:ext cx="69084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9120" y="39146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0.8808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91160" y="5557680"/>
            <a:ext cx="1585800" cy="903240"/>
            <a:chOff x="5591160" y="5557680"/>
            <a:chExt cx="1585800" cy="90324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6076800" y="5557680"/>
              <a:ext cx="523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591160" y="6092640"/>
              <a:ext cx="15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99440" y="1033560"/>
            <a:ext cx="49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98680" y="1655640"/>
          <a:ext cx="224820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8680" y="1655640"/>
                    <a:ext cx="2248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3930480" y="2395440"/>
          <a:ext cx="326556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0480" y="2395440"/>
                    <a:ext cx="3265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80960" y="2530440"/>
            <a:ext cx="24717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11760" y="2992320"/>
          <a:ext cx="434160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11760" y="2992320"/>
                    <a:ext cx="43416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911760" y="3662280"/>
          <a:ext cx="4440240" cy="601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11760" y="3662280"/>
                    <a:ext cx="44402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74840" y="3154320"/>
            <a:ext cx="308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b = log a + log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95440" y="5002200"/>
          <a:ext cx="347184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5440" y="5002200"/>
                    <a:ext cx="3471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79880" y="3757680"/>
            <a:ext cx="2370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x lo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1680" y="4365720"/>
            <a:ext cx="177012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21120" y="4273560"/>
          <a:ext cx="3471840" cy="60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21120" y="4273560"/>
                    <a:ext cx="3471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210200" y="5041800"/>
          <a:ext cx="2234880" cy="4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10200" y="5041800"/>
                    <a:ext cx="2234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588000" y="5008680"/>
          <a:ext cx="223524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88000" y="5008680"/>
                    <a:ext cx="2235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149720" y="1674720"/>
          <a:ext cx="220500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9720" y="1674720"/>
                    <a:ext cx="2205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897920" y="1054080"/>
            <a:ext cx="49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946680" y="2395440"/>
          <a:ext cx="3232080" cy="63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46680" y="2395440"/>
                    <a:ext cx="3232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80960" y="2530440"/>
            <a:ext cx="24717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27600" y="3033720"/>
          <a:ext cx="430848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27600" y="3033720"/>
                    <a:ext cx="43084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11480" y="3662280"/>
          <a:ext cx="4240440" cy="60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1480" y="3662280"/>
                    <a:ext cx="4240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74840" y="3154320"/>
            <a:ext cx="308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b = log a + log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77880" y="5002200"/>
          <a:ext cx="3305160" cy="60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7880" y="5002200"/>
                    <a:ext cx="33051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79880" y="3757680"/>
            <a:ext cx="2370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x lo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680" y="4365720"/>
            <a:ext cx="177012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003560" y="4273560"/>
          <a:ext cx="330516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03560" y="4273560"/>
                    <a:ext cx="33051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425840" y="5041800"/>
          <a:ext cx="1801800" cy="468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25840" y="5041800"/>
                    <a:ext cx="1801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703920" y="5008680"/>
          <a:ext cx="200196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03920" y="5008680"/>
                    <a:ext cx="20019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56" name="" descr=""/>
            <p:cNvPicPr/>
            <p:nvPr/>
          </p:nvPicPr>
          <p:blipFill>
            <a:blip r:embed="rId22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6760" y="125748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logarithmic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46560" y="1962000"/>
          <a:ext cx="274644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6560" y="1962000"/>
                    <a:ext cx="27464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906800" y="2854440"/>
          <a:ext cx="170676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06800" y="2854440"/>
                    <a:ext cx="1706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616320" y="3019320"/>
            <a:ext cx="3308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6320" y="3860640"/>
            <a:ext cx="3308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997520" y="3551400"/>
          <a:ext cx="3171600" cy="122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97520" y="3551400"/>
                    <a:ext cx="3171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324240" y="4879800"/>
          <a:ext cx="5076720" cy="6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4240" y="4879800"/>
                    <a:ext cx="507672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30520" y="961920"/>
          <a:ext cx="325908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0520" y="961920"/>
                    <a:ext cx="3259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632480" y="1471680"/>
          <a:ext cx="2714400" cy="52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2480" y="1471680"/>
                    <a:ext cx="27144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11920" y="1091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7320" y="156132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ng your answer in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9640" y="199476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A, B and C are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47600" y="2540160"/>
          <a:ext cx="3078360" cy="57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7600" y="2540160"/>
                    <a:ext cx="307836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222880" y="2492280"/>
          <a:ext cx="32590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22880" y="2492280"/>
                    <a:ext cx="3259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424240" y="3367080"/>
          <a:ext cx="1296720" cy="99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4240" y="3367080"/>
                    <a:ext cx="1296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863960" y="3375000"/>
          <a:ext cx="1870200" cy="93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63960" y="3375000"/>
                    <a:ext cx="1870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820800" y="4692600"/>
          <a:ext cx="380052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20800" y="4692600"/>
                    <a:ext cx="38005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489640" y="4692600"/>
          <a:ext cx="3016080" cy="542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9640" y="4692600"/>
                    <a:ext cx="3016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10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68320" y="1189080"/>
          <a:ext cx="376092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8320" y="1189080"/>
                    <a:ext cx="3760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65120" y="130176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74960" y="2173320"/>
          <a:ext cx="248580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2173320"/>
                    <a:ext cx="2485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792760" y="2371680"/>
          <a:ext cx="1930320" cy="58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2760" y="2371680"/>
                    <a:ext cx="1930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171440" y="3941640"/>
          <a:ext cx="1865520" cy="62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1440" y="3941640"/>
                    <a:ext cx="1865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36880" y="3959280"/>
          <a:ext cx="1963800" cy="587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36880" y="3959280"/>
                    <a:ext cx="196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7062840" y="3990960"/>
          <a:ext cx="101448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62840" y="3990960"/>
                    <a:ext cx="1014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36" name="" descr=""/>
            <p:cNvPicPr/>
            <p:nvPr/>
          </p:nvPicPr>
          <p:blipFill>
            <a:blip r:embed="rId1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880" y="129780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49320" y="1228680"/>
          <a:ext cx="28782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9320" y="1228680"/>
                    <a:ext cx="2878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93640" y="2330280"/>
          <a:ext cx="327348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640" y="2330280"/>
                    <a:ext cx="32734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372280" y="2133720"/>
          <a:ext cx="2145960" cy="93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72280" y="2133720"/>
                    <a:ext cx="21459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41440" y="3335400"/>
          <a:ext cx="3276360" cy="115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440" y="3335400"/>
                    <a:ext cx="327636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597640" y="3659040"/>
          <a:ext cx="2089080" cy="50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97640" y="3659040"/>
                    <a:ext cx="2089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1922400" y="4800600"/>
          <a:ext cx="1636920" cy="50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22400" y="4800600"/>
                    <a:ext cx="1636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5564160" y="4829040"/>
          <a:ext cx="1523880" cy="45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4160" y="4829040"/>
                    <a:ext cx="1523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61" name="" descr=""/>
            <p:cNvPicPr/>
            <p:nvPr/>
          </p:nvPicPr>
          <p:blipFill>
            <a:blip r:embed="rId21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71680" y="1187280"/>
          <a:ext cx="246852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1680" y="1187280"/>
                    <a:ext cx="2468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533520" y="127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0400" y="127728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gebraically the value of 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73160" y="2030400"/>
          <a:ext cx="2328840" cy="506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73160" y="2030400"/>
                    <a:ext cx="23288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856040" y="2030400"/>
          <a:ext cx="2048040" cy="50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6040" y="2030400"/>
                    <a:ext cx="20480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65560" y="2744640"/>
          <a:ext cx="1571400" cy="50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744640"/>
                    <a:ext cx="15714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938160" y="3478320"/>
          <a:ext cx="2975040" cy="53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38160" y="3478320"/>
                    <a:ext cx="29750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035680" y="3492360"/>
          <a:ext cx="3058920" cy="506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35680" y="3492360"/>
                    <a:ext cx="30589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919080" y="4365720"/>
          <a:ext cx="2189160" cy="95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9080" y="4365720"/>
                    <a:ext cx="21891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633840" y="4556160"/>
          <a:ext cx="2189160" cy="450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33840" y="4556160"/>
                    <a:ext cx="21891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165720" y="4537080"/>
          <a:ext cx="2470320" cy="450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65720" y="4537080"/>
                    <a:ext cx="24703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94" name="" descr=""/>
            <p:cNvPicPr/>
            <p:nvPr/>
          </p:nvPicPr>
          <p:blipFill>
            <a:blip r:embed="rId25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120" y="1043640"/>
            <a:ext cx="83534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x co-ordinate of the point where the graph of the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125800" y="1474920"/>
          <a:ext cx="227628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5800" y="1474920"/>
                    <a:ext cx="22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4549680" y="14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sect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axi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1200" y="2389320"/>
            <a:ext cx="147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59240" y="2349360"/>
          <a:ext cx="2249280" cy="46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9240" y="2349360"/>
                    <a:ext cx="22492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562200" y="3048120"/>
          <a:ext cx="2043360" cy="46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2200" y="3048120"/>
                    <a:ext cx="2043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782280" y="3716280"/>
            <a:ext cx="2090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1200" y="3068640"/>
            <a:ext cx="147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728880" y="3670200"/>
          <a:ext cx="1344600" cy="41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28880" y="3670200"/>
                    <a:ext cx="134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741840" y="4365720"/>
          <a:ext cx="1319040" cy="41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41840" y="4365720"/>
                    <a:ext cx="1319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781200" y="4365720"/>
            <a:ext cx="147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346800" y="4249800"/>
          <a:ext cx="9828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46800" y="4249800"/>
                    <a:ext cx="9828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24" name="" descr=""/>
            <p:cNvPicPr/>
            <p:nvPr/>
          </p:nvPicPr>
          <p:blipFill>
            <a:blip r:embed="rId1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2000" y="93564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ph illustrates the l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57280" y="1432080"/>
          <a:ext cx="1079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7280" y="1432080"/>
                    <a:ext cx="1079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442800" y="1980360"/>
            <a:ext cx="46198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traight line passes through A(0.5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B(0,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value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9"/>
          <a:stretch/>
        </p:blipFill>
        <p:spPr>
          <a:xfrm>
            <a:off x="5327640" y="784080"/>
            <a:ext cx="3321000" cy="242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833400" y="3344760"/>
          <a:ext cx="232884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3400" y="3344760"/>
                    <a:ext cx="2328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38200" y="4054320"/>
          <a:ext cx="3408480" cy="506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8200" y="4054320"/>
                    <a:ext cx="3408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870120" y="4699080"/>
          <a:ext cx="2214360" cy="50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70120" y="4699080"/>
                    <a:ext cx="22143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682880" y="3444840"/>
            <a:ext cx="115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997600" y="3279600"/>
          <a:ext cx="625320" cy="70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97600" y="3279600"/>
                    <a:ext cx="6253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898320" y="3454560"/>
            <a:ext cx="137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8505720" y="3486240"/>
          <a:ext cx="200160" cy="309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505720" y="3486240"/>
                    <a:ext cx="200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4986360" y="4222800"/>
          <a:ext cx="1363680" cy="506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86360" y="4222800"/>
                    <a:ext cx="1363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7121520" y="4249800"/>
          <a:ext cx="1306440" cy="45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21520" y="4249800"/>
                    <a:ext cx="13064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019840" y="4950000"/>
          <a:ext cx="2073240" cy="450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19840" y="4950000"/>
                    <a:ext cx="20732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58" name="" descr=""/>
            <p:cNvPicPr/>
            <p:nvPr/>
          </p:nvPicPr>
          <p:blipFill>
            <a:blip r:embed="rId26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89760" y="113364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7920" y="1781280"/>
            <a:ext cx="57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questions on this topic will 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you knowing and being able to u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y basic rules and f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47640" y="4114800"/>
            <a:ext cx="1586160" cy="903240"/>
            <a:chOff x="1547640" y="4114800"/>
            <a:chExt cx="1586160" cy="90324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2033640" y="4114800"/>
              <a:ext cx="5238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547640" y="464976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1080" y="4108320"/>
            <a:ext cx="39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hen you see thi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lick for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7600" y="9853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a forest fire was brought under control, the spread of fire was described by a law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843280" y="1530360"/>
          <a:ext cx="126216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1530360"/>
                    <a:ext cx="12621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520200" y="184716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96880" y="2368440"/>
          <a:ext cx="39672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880" y="2368440"/>
                    <a:ext cx="39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95000" y="2440080"/>
            <a:ext cx="725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rea covered by the fire when it was first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rea covered by the fir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ur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it takes one and a half hours for the area of the forest fire to dou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value of the const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41240" y="4181400"/>
          <a:ext cx="181152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240" y="4181400"/>
                    <a:ext cx="1811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960640" y="4214880"/>
          <a:ext cx="1703520" cy="49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60640" y="4214880"/>
                    <a:ext cx="17035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246640" y="4152960"/>
          <a:ext cx="307656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46640" y="4152960"/>
                    <a:ext cx="30765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630360" y="5022720"/>
          <a:ext cx="225252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360" y="5022720"/>
                    <a:ext cx="22525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143160" y="4826160"/>
          <a:ext cx="1949400" cy="84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4826160"/>
                    <a:ext cx="1949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278320" y="5052960"/>
          <a:ext cx="3570480" cy="438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78320" y="5052960"/>
                    <a:ext cx="3570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89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72280" y="701640"/>
            <a:ext cx="3319200" cy="26132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0320" y="844920"/>
            <a:ext cx="403668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sults of a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ve rise to the graph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down the equation of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P and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iven th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157400" y="2511360"/>
            <a:ext cx="3570120" cy="455760"/>
            <a:chOff x="1157400" y="2511360"/>
            <a:chExt cx="3570120" cy="455760"/>
          </a:xfrm>
        </p:grpSpPr>
        <p:graphicFrame>
          <p:nvGraphicFramePr>
            <p:cNvPr id="501" name=""/>
            <p:cNvGraphicFramePr/>
            <p:nvPr/>
          </p:nvGraphicFramePr>
          <p:xfrm>
            <a:off x="1157400" y="2538360"/>
            <a:ext cx="1285920" cy="428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157400" y="2538360"/>
                      <a:ext cx="12859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2531160" y="255024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4" name=""/>
            <p:cNvGraphicFramePr/>
            <p:nvPr/>
          </p:nvGraphicFramePr>
          <p:xfrm>
            <a:off x="3403800" y="2511360"/>
            <a:ext cx="1323720" cy="447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403800" y="2511360"/>
                      <a:ext cx="13237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"/>
          <p:cNvGrpSpPr/>
          <p:nvPr/>
        </p:nvGrpSpPr>
        <p:grpSpPr>
          <a:xfrm>
            <a:off x="693720" y="3394080"/>
            <a:ext cx="5253120" cy="519120"/>
            <a:chOff x="693720" y="3394080"/>
            <a:chExt cx="5253120" cy="519120"/>
          </a:xfrm>
        </p:grpSpPr>
        <p:graphicFrame>
          <p:nvGraphicFramePr>
            <p:cNvPr id="507" name=""/>
            <p:cNvGraphicFramePr/>
            <p:nvPr/>
          </p:nvGraphicFramePr>
          <p:xfrm>
            <a:off x="693720" y="3394080"/>
            <a:ext cx="1146240" cy="519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93720" y="3394080"/>
                      <a:ext cx="1146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1908360" y="347256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ng the values of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and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91960" y="3053520"/>
            <a:ext cx="57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Show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satisfy a relationship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821200" y="3529080"/>
          <a:ext cx="2345040" cy="525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21200" y="3529080"/>
                    <a:ext cx="23450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662440" y="4095720"/>
          <a:ext cx="3233880" cy="476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62440" y="4095720"/>
                    <a:ext cx="32338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5332320" y="4618080"/>
          <a:ext cx="1925640" cy="446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2320" y="4618080"/>
                    <a:ext cx="1925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496800" y="4237200"/>
            <a:ext cx="115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909800" y="4254480"/>
          <a:ext cx="426960" cy="338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09800" y="4254480"/>
                    <a:ext cx="4269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2711880" y="4246560"/>
            <a:ext cx="137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4219560" y="4264200"/>
          <a:ext cx="399960" cy="338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19560" y="4264200"/>
                    <a:ext cx="3999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568520" y="4925880"/>
          <a:ext cx="1800000" cy="397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568520" y="4925880"/>
                    <a:ext cx="18000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051440" y="5102280"/>
          <a:ext cx="4727520" cy="471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051440" y="5102280"/>
                    <a:ext cx="47275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788240" y="4645080"/>
          <a:ext cx="900000" cy="347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788240" y="4645080"/>
                    <a:ext cx="900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30" name="" descr=""/>
            <p:cNvPicPr/>
            <p:nvPr/>
          </p:nvPicPr>
          <p:blipFill>
            <a:blip r:embed="rId30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1960" y="10152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part of the graph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058840" y="1630440"/>
          <a:ext cx="20304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1630440"/>
                    <a:ext cx="2030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44760" y="23295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the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5865840" y="932040"/>
            <a:ext cx="2879640" cy="23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>
          <a:off x="1971720" y="3159000"/>
          <a:ext cx="2570040" cy="48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71720" y="3159000"/>
                    <a:ext cx="2570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16320" y="3181320"/>
            <a:ext cx="1299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(7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44720" y="3789360"/>
          <a:ext cx="2624040" cy="48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44720" y="3789360"/>
                    <a:ext cx="2624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616320" y="3789360"/>
            <a:ext cx="1299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(3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3400" y="4567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nce, fro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890800" y="4541760"/>
          <a:ext cx="1136520" cy="379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90800" y="4541760"/>
                    <a:ext cx="11365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4689360" y="4541760"/>
          <a:ext cx="947880" cy="379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9360" y="4541760"/>
                    <a:ext cx="947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743400" y="5183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nd fro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797360" y="5118120"/>
          <a:ext cx="730440" cy="379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97360" y="5118120"/>
                    <a:ext cx="730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722680" y="5124600"/>
          <a:ext cx="1269720" cy="487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22680" y="5124600"/>
                    <a:ext cx="12697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63" name="" descr=""/>
            <p:cNvPicPr/>
            <p:nvPr/>
          </p:nvPicPr>
          <p:blipFill>
            <a:blip r:embed="rId22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1520" y="9550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a sketc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of the grap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14600" y="1433520"/>
          <a:ext cx="144000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433520"/>
                    <a:ext cx="1440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409320" y="2122920"/>
            <a:ext cx="64292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the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270240" y="2583000"/>
          <a:ext cx="218268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0240" y="2583000"/>
                    <a:ext cx="21826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" descr=""/>
          <p:cNvPicPr/>
          <p:nvPr/>
        </p:nvPicPr>
        <p:blipFill>
          <a:blip r:embed="rId11"/>
          <a:stretch/>
        </p:blipFill>
        <p:spPr>
          <a:xfrm>
            <a:off x="5846760" y="774720"/>
            <a:ext cx="2903400" cy="24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1131840" y="3359160"/>
          <a:ext cx="704880" cy="379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31840" y="3359160"/>
                    <a:ext cx="704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2502000" y="3367080"/>
          <a:ext cx="730080" cy="379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2000" y="3367080"/>
                    <a:ext cx="730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47880" y="4518000"/>
            <a:ext cx="353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unit to the left and 3 unit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6"/>
          <a:stretch/>
        </p:blipFill>
        <p:spPr>
          <a:xfrm>
            <a:off x="5418000" y="3019320"/>
            <a:ext cx="29797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87" name="" descr=""/>
            <p:cNvPicPr/>
            <p:nvPr/>
          </p:nvPicPr>
          <p:blipFill>
            <a:blip r:embed="rId17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67560" y="9579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 i)   Sketch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429000" y="865080"/>
          <a:ext cx="1940040" cy="4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865080"/>
                    <a:ext cx="194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27240" y="1372320"/>
            <a:ext cx="54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)   On the same diagram, sketch the graph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444840" y="1731960"/>
          <a:ext cx="193212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4840" y="1731960"/>
                    <a:ext cx="19321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309240" y="2432160"/>
            <a:ext cx="4635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304920"/>
                <a:tab algn="l" pos="609480"/>
                <a:tab algn="l" pos="990720"/>
                <a:tab algn="l" pos="137160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 that the graphs intersect a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x-coordinate 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586320" y="2825640"/>
          <a:ext cx="1506240" cy="84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6320" y="2825640"/>
                    <a:ext cx="15062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781200" y="3830760"/>
          <a:ext cx="1339560" cy="36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1200" y="3830760"/>
                    <a:ext cx="13395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536920" y="3821040"/>
          <a:ext cx="179388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36920" y="3821040"/>
                    <a:ext cx="1793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5254560" y="3795840"/>
          <a:ext cx="1862280" cy="45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4560" y="3795840"/>
                    <a:ext cx="18622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0400" y="4379760"/>
          <a:ext cx="3587760" cy="45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0400" y="4379760"/>
                    <a:ext cx="35877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151600" y="4392720"/>
          <a:ext cx="2496960" cy="45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51600" y="4392720"/>
                    <a:ext cx="24969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25320" y="5000760"/>
          <a:ext cx="2316240" cy="45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5320" y="5000760"/>
                    <a:ext cx="23162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3575160" y="4946760"/>
          <a:ext cx="2292120" cy="498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5160" y="4946760"/>
                    <a:ext cx="22921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6294600" y="4713120"/>
          <a:ext cx="2428560" cy="90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94600" y="4713120"/>
                    <a:ext cx="24285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5492880" y="866880"/>
            <a:ext cx="3289320" cy="2789280"/>
          </a:xfrm>
          <a:prstGeom prst="rect">
            <a:avLst/>
          </a:prstGeom>
          <a:ln w="0">
            <a:noFill/>
          </a:ln>
        </p:spPr>
      </p:pic>
      <p:grpSp>
        <p:nvGrpSpPr>
          <p:cNvPr id="622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623" name="" descr=""/>
            <p:cNvPicPr/>
            <p:nvPr/>
          </p:nvPicPr>
          <p:blipFill>
            <a:blip r:embed="rId30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8640" y="9453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of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615960" y="1357200"/>
          <a:ext cx="23684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960" y="1357200"/>
                    <a:ext cx="23684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441720" y="1820880"/>
            <a:ext cx="26406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shown in the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aph cross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-axis at the point 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aight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192400" y="2913120"/>
          <a:ext cx="77148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2400" y="2913120"/>
                    <a:ext cx="77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449280" y="3418920"/>
            <a:ext cx="75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point B.   Find algebraically the x co-ordinates of A and B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1"/>
          <a:stretch/>
        </p:blipFill>
        <p:spPr>
          <a:xfrm>
            <a:off x="3903840" y="874800"/>
            <a:ext cx="4983120" cy="24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"/>
          <p:cNvGraphicFramePr/>
          <p:nvPr/>
        </p:nvGraphicFramePr>
        <p:xfrm>
          <a:off x="598320" y="3978360"/>
          <a:ext cx="218304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8320" y="3978360"/>
                    <a:ext cx="21830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801880" y="3827520"/>
          <a:ext cx="2554200" cy="71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01880" y="3827520"/>
                    <a:ext cx="25542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726160" y="3978360"/>
          <a:ext cx="269388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26160" y="3978360"/>
                    <a:ext cx="26938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733320" y="4540320"/>
          <a:ext cx="2113200" cy="417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3320" y="4540320"/>
                    <a:ext cx="2113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132000" y="4540320"/>
          <a:ext cx="2113200" cy="417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32000" y="4540320"/>
                    <a:ext cx="2113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5533920" y="4548240"/>
          <a:ext cx="1393920" cy="372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33920" y="4548240"/>
                    <a:ext cx="13939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7240680" y="4548240"/>
          <a:ext cx="1255680" cy="372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240680" y="454824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55480" y="5099040"/>
          <a:ext cx="2343240" cy="447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5480" y="5099040"/>
                    <a:ext cx="23432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130560" y="5140440"/>
          <a:ext cx="1793880" cy="3985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130560" y="5140440"/>
                    <a:ext cx="17938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257800" y="5140440"/>
          <a:ext cx="1544760" cy="3985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257800" y="5140440"/>
                    <a:ext cx="1544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7205760" y="5157720"/>
          <a:ext cx="1325520" cy="372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205760" y="5157720"/>
                    <a:ext cx="13255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664" name="" descr=""/>
            <p:cNvPicPr/>
            <p:nvPr/>
          </p:nvPicPr>
          <p:blipFill>
            <a:blip r:embed="rId34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1200" y="893520"/>
            <a:ext cx="3570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is a sketch of pa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879560" y="1138320"/>
          <a:ext cx="186228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9560" y="1138320"/>
                    <a:ext cx="1862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164880" y="1681200"/>
            <a:ext cx="46522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(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1) lie on this cur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down the value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copy of this diagram an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938320" y="2637000"/>
          <a:ext cx="11509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8320" y="2637000"/>
                    <a:ext cx="1150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325800" y="3309120"/>
            <a:ext cx="56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co-ordinates of the point of intersection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731880" y="3697200"/>
          <a:ext cx="95256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880" y="3697200"/>
                    <a:ext cx="952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1847160" y="380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614760" y="3792600"/>
          <a:ext cx="71100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4760" y="3792600"/>
                    <a:ext cx="711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6" name="" descr=""/>
          <p:cNvPicPr/>
          <p:nvPr/>
        </p:nvPicPr>
        <p:blipFill>
          <a:blip r:embed="rId15"/>
          <a:stretch/>
        </p:blipFill>
        <p:spPr>
          <a:xfrm>
            <a:off x="4884840" y="971640"/>
            <a:ext cx="1979640" cy="16761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63840" y="4303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82680" y="4332240"/>
          <a:ext cx="701640" cy="32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82680" y="4332240"/>
                    <a:ext cx="7016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2384280" y="4305240"/>
          <a:ext cx="755640" cy="37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84280" y="4305240"/>
                    <a:ext cx="755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5437440" y="4303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0"/>
          <a:stretch/>
        </p:blipFill>
        <p:spPr>
          <a:xfrm>
            <a:off x="5921280" y="2646360"/>
            <a:ext cx="2992680" cy="21906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674640" y="4983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257480" y="4941720"/>
          <a:ext cx="1004760" cy="466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57480" y="4941720"/>
                    <a:ext cx="1004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2776680" y="4941720"/>
          <a:ext cx="850680" cy="466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76680" y="4941720"/>
                    <a:ext cx="8506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148280" y="4890960"/>
          <a:ext cx="979200" cy="569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48280" y="4890960"/>
                    <a:ext cx="9792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1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702" name="" descr=""/>
            <p:cNvPicPr/>
            <p:nvPr/>
          </p:nvPicPr>
          <p:blipFill>
            <a:blip r:embed="rId27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19400" y="1019880"/>
            <a:ext cx="53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part of the graph with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6400" y="1395360"/>
          <a:ext cx="833760" cy="46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" y="1395360"/>
                    <a:ext cx="833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1351080" y="143136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straight line with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4943520" y="1386000"/>
          <a:ext cx="8809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43520" y="1386000"/>
                    <a:ext cx="8809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457200" y="2023560"/>
            <a:ext cx="4406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graphs intersect at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algebraically the equ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3917880" y="2289240"/>
          <a:ext cx="111276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17880" y="2289240"/>
                    <a:ext cx="11127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422280" y="2846880"/>
            <a:ext cx="76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ence write down, correct to 3 decimal places, the co-ordinates of 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2"/>
          <a:stretch/>
        </p:blipFill>
        <p:spPr>
          <a:xfrm>
            <a:off x="5979960" y="922320"/>
            <a:ext cx="2795760" cy="20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3" name=""/>
          <p:cNvGraphicFramePr/>
          <p:nvPr/>
        </p:nvGraphicFramePr>
        <p:xfrm>
          <a:off x="530280" y="3527280"/>
          <a:ext cx="2576520" cy="54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0280" y="3527280"/>
                    <a:ext cx="257652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560760" y="3541680"/>
          <a:ext cx="3220920" cy="5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60760" y="3541680"/>
                    <a:ext cx="3220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647640" y="4370400"/>
          <a:ext cx="2313000" cy="974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640" y="4370400"/>
                    <a:ext cx="23130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375000" y="4600440"/>
          <a:ext cx="25765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75000" y="4600440"/>
                    <a:ext cx="257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243480" y="5035680"/>
          <a:ext cx="248760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3480" y="5035680"/>
                    <a:ext cx="248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734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71200" y="121752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Rules of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28960" y="2084400"/>
          <a:ext cx="438948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28960" y="2084400"/>
                    <a:ext cx="43894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144880" y="2925720"/>
          <a:ext cx="427500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4880" y="2925720"/>
                    <a:ext cx="427500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692440" y="4324320"/>
          <a:ext cx="3179880" cy="66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4324320"/>
                    <a:ext cx="31798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73400" y="1376280"/>
            <a:ext cx="3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pecial loga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375000" y="2502000"/>
          <a:ext cx="173520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5000" y="2502000"/>
                    <a:ext cx="17352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416400" y="3765600"/>
          <a:ext cx="17319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6400" y="3765600"/>
                    <a:ext cx="1731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80160" y="139716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between log and expon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12800" y="3041640"/>
          <a:ext cx="568008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2800" y="3041640"/>
                    <a:ext cx="5680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3920" y="939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the exponenti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603520" y="1636560"/>
            <a:ext cx="39686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93996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689200" y="1620720"/>
            <a:ext cx="43466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4440" y="121752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functio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3840" y="2160720"/>
          <a:ext cx="1765440" cy="29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3840" y="2160720"/>
                    <a:ext cx="176544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885480" y="2087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left 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5840" y="263700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right 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5480" y="3213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in x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5480" y="36846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2210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up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920" y="46530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down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05480" y="1212840"/>
          <a:ext cx="155268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5480" y="1212840"/>
                    <a:ext cx="15526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7297560" y="4583160"/>
            <a:ext cx="1586160" cy="903240"/>
            <a:chOff x="7297560" y="4583160"/>
            <a:chExt cx="1586160" cy="903240"/>
          </a:xfrm>
        </p:grpSpPr>
        <p:pic>
          <p:nvPicPr>
            <p:cNvPr id="145" name="" descr=""/>
            <p:cNvPicPr/>
            <p:nvPr/>
          </p:nvPicPr>
          <p:blipFill>
            <a:blip r:embed="rId11"/>
            <a:stretch/>
          </p:blipFill>
          <p:spPr>
            <a:xfrm>
              <a:off x="7783560" y="4583160"/>
              <a:ext cx="5238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97560" y="51181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280" y="1217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2581200"/>
            <a:ext cx="83340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1080" y="2665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41880" y="2567160"/>
          <a:ext cx="1052640" cy="74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1880" y="2567160"/>
                    <a:ext cx="10526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887560" y="3992400"/>
            <a:ext cx="83340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108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54760" y="3978360"/>
          <a:ext cx="122688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54760" y="3978360"/>
                    <a:ext cx="12268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5:25Z</dcterms:modified>
  <cp:revision>362</cp:revision>
  <dc:subject/>
  <dc:title>Standard Grade</dc:title>
</cp:coreProperties>
</file>